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15F-3159-4F06-BD70-2FEE2D15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6CB-E743-4FC1-8059-1E933F17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FD2-1C52-4845-823A-3F45CC04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2F0-1D14-4A9B-8B81-C0C3178B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9594-87BD-4424-AB7C-E2DDD1AE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B8D0-F956-4FC9-AECB-4678C06F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424F-9249-441D-ACCB-2A91BA55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05EF-5EC6-4358-B48C-FEF55AC3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F92C-89B6-4D12-9E4D-26418DB4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EB3E-0C5F-4F9F-9204-685930DD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8F08-0109-4925-A48D-5C05A590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368-1DBD-4486-8134-3C823847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E7A4-5B2A-4013-BA9B-A8192EEF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0C96-2D3E-48B9-B86A-DAC43147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3DC8-1A75-45D9-BA6C-A9BE23BE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BB0C-D6F0-4D6A-B74C-A78D47DC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6688-307A-434A-B233-AF5FAFD9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C14F-254A-4DA8-AF84-FF364D79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F7F0E-FA3E-4206-9315-29693662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E840-3EE5-4B08-B1C4-F018F7EC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8BDE-EDAD-49D6-A3EE-F289DB07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D726-1D90-42AA-A6A0-2FFCF623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482-D3FC-4569-8B07-2C55925B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1EDE-79BE-47B6-AFF5-D024C2D0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D170-8129-42AE-AF76-8D25A5F9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AF841-2C1A-4459-9A26-5B917C7E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DCA4-8150-47A8-834F-4F763A52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B603-A497-472C-8B2C-99D3D591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A181-F67D-4B32-81F9-CBF9CFE8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F43CE-375E-41AA-9A72-6A9F9940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38620-2833-41F0-B5D5-FA86B221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021AB-0D1D-4F6E-AB9A-CD94BF0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B3DD-A047-44CB-8646-C3B530E1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AE1-EABA-482B-A139-BF921E5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E1B25-551C-460D-A8CD-DFF443DE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3ECBD-2186-4202-8DE5-8028DA9B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3F429-2381-4F33-A822-BBC312E2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53908-7834-484F-AFCE-EC469296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F5734-03B8-4CC8-9CB7-D15162D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33D2-4A82-4AB4-86BF-A672DEC9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1DCD2-3ADC-4A8F-A708-68EA1645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B3F2B-036B-4C3B-A337-28D4FAED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A50F-287A-48E8-95CE-22BAA1A2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CCAB4-A9B9-4924-A944-A936F551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07E-43A1-423F-B383-B051299F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90A9-0C23-4F3C-B296-57323A7B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FD2F0-26A4-4C17-916C-23B66929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95CE6-D57F-48B4-B22F-38BC3BA1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95046-7BF1-45CB-BA24-D75DD547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18F4-7D1C-40C1-A604-9A2A88B4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A6BB-D244-4B12-A3C1-70ED8105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EE287-31B9-40EC-9821-A4BBE9D4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CC67C-6D5F-4365-A9FD-6F0A1DC7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27018-2C80-47B1-91DE-9A4D2EFD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A788D-0421-4A1A-A396-29EF086F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5E4-491F-4428-9B62-5505F3B1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2ADF4-383D-4CDB-B7F2-80429174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83501-94AF-4F74-B019-07E879A6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7749A-9DAE-4E7A-B430-6A698EC3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8CDDF-8B51-474C-84B2-C8940E64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4A8D9-E222-4EC4-9B72-B2CA22AD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32C40-093C-4A65-8F59-BFB8DA48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514E7-4B17-4894-8CCB-1B1E2A26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40130-356C-4B80-B2EC-B7C0F0E1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51F8-98EB-4375-B822-38CF8049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33177-6100-4B3E-BE40-B8764A79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4DC-05F7-41B1-906D-BBC749D5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1C191-E955-4D87-A226-5B85252F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A8CBA-4696-498F-87EA-F6C8ACD1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39986-20DA-4B1E-B499-E0A38A6A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B9975-4BA2-460C-A70E-8CCABE42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97969-AF09-4887-A433-92268273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B1283-C2B7-44E0-ACBC-7AECAA3C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B8BEE-271C-452C-A96A-EAC9EE1E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8CCD6-D55C-4C74-B971-6C416DBE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6BE6E-7591-4802-A186-84BED1C9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68BF0-7937-4B88-A8AB-5D80DA0A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570-5E95-40BA-8E82-E15E73DD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FC7E5-6269-4795-981D-6D24B06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51A6B-4107-480E-B03C-FF8850D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30D9-3571-4109-B868-FED8FA0E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065A4-2F4F-4ACC-B9E8-CCF96941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F9095-B80A-41F5-8F6D-286F7A88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E6F-D5D1-4DC7-B449-8FDB92B5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12A4-D93A-4266-9C56-FF5B9644F8CC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E40C-6ACA-4E4A-9B75-081EE10577F3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803C-7A3C-4E54-860A-CC1C9BC7C3A0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FCAB-D5FA-4D26-8EBA-A2DC8C7B6ABA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16FA-00A9-4746-8AB9-5C595A3F149E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7812-6945-4EBF-818A-0253432B2D0E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D5F-1D79-4AA6-B9FF-345DD02C5CF2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Cooper Black"/>
              </a:rPr>
              <a:t>Challenge 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7fd13b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7fd13b"/>
              </a:solidFill>
              <a:latin typeface="Cooper Black"/>
              <a:ea typeface="Cooper Black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Equip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323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23560" y="76320"/>
            <a:ext cx="786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Which piece of lab equipment would you use to measure approximately 200 mL of water?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Rectangle 12" descr=""/>
          <p:cNvPicPr/>
          <p:nvPr/>
        </p:nvPicPr>
        <p:blipFill>
          <a:blip r:embed="rId1"/>
          <a:stretch/>
        </p:blipFill>
        <p:spPr>
          <a:xfrm>
            <a:off x="2535120" y="3011400"/>
            <a:ext cx="970200" cy="82872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13" descr=""/>
          <p:cNvPicPr/>
          <p:nvPr/>
        </p:nvPicPr>
        <p:blipFill>
          <a:blip r:embed="rId2"/>
          <a:stretch/>
        </p:blipFill>
        <p:spPr>
          <a:xfrm>
            <a:off x="4809960" y="3524400"/>
            <a:ext cx="987480" cy="82836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14" descr=""/>
          <p:cNvPicPr/>
          <p:nvPr/>
        </p:nvPicPr>
        <p:blipFill>
          <a:blip r:embed="rId3"/>
          <a:stretch/>
        </p:blipFill>
        <p:spPr>
          <a:xfrm>
            <a:off x="7242120" y="309096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15" descr=""/>
          <p:cNvPicPr/>
          <p:nvPr/>
        </p:nvPicPr>
        <p:blipFill>
          <a:blip r:embed="rId4"/>
          <a:stretch/>
        </p:blipFill>
        <p:spPr>
          <a:xfrm>
            <a:off x="4280040" y="5297400"/>
            <a:ext cx="987120" cy="828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6" descr=""/>
          <p:cNvPicPr/>
          <p:nvPr/>
        </p:nvPicPr>
        <p:blipFill>
          <a:blip r:embed="rId5"/>
          <a:stretch/>
        </p:blipFill>
        <p:spPr>
          <a:xfrm>
            <a:off x="3809880" y="1393920"/>
            <a:ext cx="2314800" cy="2340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7" descr=""/>
          <p:cNvPicPr/>
          <p:nvPr/>
        </p:nvPicPr>
        <p:blipFill>
          <a:blip r:embed="rId6"/>
          <a:stretch/>
        </p:blipFill>
        <p:spPr>
          <a:xfrm>
            <a:off x="7010280" y="1143000"/>
            <a:ext cx="1600200" cy="208296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7" descr=""/>
          <p:cNvPicPr/>
          <p:nvPr/>
        </p:nvPicPr>
        <p:blipFill>
          <a:blip r:embed="rId7"/>
          <a:stretch/>
        </p:blipFill>
        <p:spPr>
          <a:xfrm>
            <a:off x="7327800" y="5224320"/>
            <a:ext cx="957240" cy="822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3" descr="http://www.msnucleus.org/membership/html/k-6/as/scimath/3/images/assm3_5a2.gif"/>
          <p:cNvPicPr/>
          <p:nvPr/>
        </p:nvPicPr>
        <p:blipFill>
          <a:blip r:embed="rId8"/>
          <a:stretch/>
        </p:blipFill>
        <p:spPr>
          <a:xfrm>
            <a:off x="6324480" y="3657600"/>
            <a:ext cx="1067040" cy="266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"/>
          <p:cNvPicPr/>
          <p:nvPr/>
        </p:nvPicPr>
        <p:blipFill>
          <a:blip r:embed="rId9"/>
          <a:stretch/>
        </p:blipFill>
        <p:spPr>
          <a:xfrm>
            <a:off x="1143000" y="4038480"/>
            <a:ext cx="3429000" cy="2497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http://www.columbia.edu/itc/chemistry/chem-cf1500/labpix/images/longstemfunnel.jpg"/>
          <p:cNvPicPr/>
          <p:nvPr/>
        </p:nvPicPr>
        <p:blipFill>
          <a:blip r:embed="rId10"/>
          <a:stretch/>
        </p:blipFill>
        <p:spPr>
          <a:xfrm rot="1954200">
            <a:off x="1922040" y="1437840"/>
            <a:ext cx="1143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3" descr=""/>
          <p:cNvPicPr/>
          <p:nvPr/>
        </p:nvPicPr>
        <p:blipFill>
          <a:blip r:embed="rId1"/>
          <a:stretch/>
        </p:blipFill>
        <p:spPr>
          <a:xfrm>
            <a:off x="4809960" y="3371760"/>
            <a:ext cx="987480" cy="828720"/>
          </a:xfrm>
          <a:prstGeom prst="rect">
            <a:avLst/>
          </a:prstGeom>
          <a:ln w="0">
            <a:noFill/>
          </a:ln>
        </p:spPr>
      </p:pic>
      <p:pic>
        <p:nvPicPr>
          <p:cNvPr id="336" name="Rectangle 14" descr=""/>
          <p:cNvPicPr/>
          <p:nvPr/>
        </p:nvPicPr>
        <p:blipFill>
          <a:blip r:embed="rId2"/>
          <a:stretch/>
        </p:blipFill>
        <p:spPr>
          <a:xfrm>
            <a:off x="7242120" y="309096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2314800" cy="2340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"/>
          <p:cNvPicPr/>
          <p:nvPr/>
        </p:nvPicPr>
        <p:blipFill>
          <a:blip r:embed="rId4"/>
          <a:stretch/>
        </p:blipFill>
        <p:spPr>
          <a:xfrm>
            <a:off x="7010280" y="1143000"/>
            <a:ext cx="1600200" cy="2082960"/>
          </a:xfrm>
          <a:prstGeom prst="rect">
            <a:avLst/>
          </a:prstGeom>
          <a:ln w="0">
            <a:noFill/>
          </a:ln>
        </p:spPr>
      </p:pic>
      <p:pic>
        <p:nvPicPr>
          <p:cNvPr id="339" name="Rectangle 16" descr=""/>
          <p:cNvPicPr/>
          <p:nvPr/>
        </p:nvPicPr>
        <p:blipFill>
          <a:blip r:embed="rId5"/>
          <a:stretch/>
        </p:blipFill>
        <p:spPr>
          <a:xfrm>
            <a:off x="1189080" y="1889280"/>
            <a:ext cx="2346120" cy="2408040"/>
          </a:xfrm>
          <a:prstGeom prst="rect">
            <a:avLst/>
          </a:prstGeom>
          <a:ln w="0">
            <a:noFill/>
          </a:ln>
        </p:spPr>
      </p:pic>
      <p:pic>
        <p:nvPicPr>
          <p:cNvPr id="340" name="Rectangle 17" descr=""/>
          <p:cNvPicPr/>
          <p:nvPr/>
        </p:nvPicPr>
        <p:blipFill>
          <a:blip r:embed="rId6"/>
          <a:stretch/>
        </p:blipFill>
        <p:spPr>
          <a:xfrm>
            <a:off x="4552920" y="4327560"/>
            <a:ext cx="4346640" cy="744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7240" y="228600"/>
            <a:ext cx="786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Which piece of lab equipment would you use to measure approximately 200 mL of water?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8-15T23:34:40Z</dcterms:modified>
  <cp:revision>140</cp:revision>
  <dc:subject/>
  <dc:title>Slide 1</dc:title>
</cp:coreProperties>
</file>